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BD0-C9A4-4A84-A066-68B35C36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D3E-54FF-4561-AF3D-C09A376B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1F2-90E7-46C0-8994-AE4402C0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48F-C1EB-44E9-989E-6B62A2E4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6A64-7D3D-4642-ABEB-9DF0DD97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0E47-8CF2-4768-B630-9CF52F81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5EF6-DF72-4147-8489-0C3B8B98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F4D2-B879-4C3F-A56F-7A3E7AA9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E4A9-1D9D-4F99-A411-77C93074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B044-4638-42E8-9004-41116978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D583-9E8D-4338-A8C1-7B8AB6D2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193-CCD4-47BC-AC4D-548CCD33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0B1E-133C-426E-82B9-5F237A0B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0766-DA86-4D65-B7A6-7AEF07A5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356F-8949-40A5-8F66-ED6AA8F2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636F-E066-4DA1-9676-897ACEDE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5F90-47B2-4F8B-8BA6-CC275D48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46C-95B3-4A6B-A6F0-40B3DBB0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605-27CB-4F51-A515-6C9D987B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1AF-21DB-4A2D-91A1-83C56AE3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A1F-D685-434A-850D-E9D315AC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9C8-5700-4934-9C5D-0CF2FD97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B80-D3F3-4E1E-A099-ED6BEA71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399-096C-436E-A517-7997145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0576-D7A2-453E-83BF-53334ABE5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B03D-D37C-44F3-A2D8-5CC6453FF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rimer1-HTM.htm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JavaScript.htm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Primer5-Java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1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382680" y="457200"/>
            <a:ext cx="928440" cy="91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14400" y="1386000"/>
            <a:ext cx="73152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Times New Roman"/>
              </a:rPr>
              <a:t>Core topics in Internet Technologies education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464832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Prof. Dr Milena Stankovi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aculty of Electronic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iversity of 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cc"/>
                </a:solidFill>
                <a:latin typeface="Book Antiqua"/>
              </a:rPr>
              <a:t>E-mail: mstankovic</a:t>
            </a:r>
            <a:r>
              <a:rPr b="0" lang="en-US" sz="2400" spc="-1" strike="noStrike">
                <a:solidFill>
                  <a:srgbClr val="00cccc"/>
                </a:solidFill>
                <a:latin typeface="Book Antiqua"/>
              </a:rPr>
              <a:t>@</a:t>
            </a:r>
            <a:r>
              <a:rPr b="0" lang="sr-Latn-CS" sz="2400" spc="-1" strike="noStrike">
                <a:solidFill>
                  <a:srgbClr val="00cccc"/>
                </a:solidFill>
                <a:latin typeface="Book Antiqua"/>
              </a:rPr>
              <a:t>elfak.ni.ac.y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6D1-E511-4237-B7C3-43BFD3054024}" type="slidenum">
              <a:t>1</a:t>
            </a:fld>
          </a:p>
        </p:txBody>
      </p:sp>
    </p:spTree>
  </p:cSld>
  <p:transition advTm="7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URL address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R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Uniform Resource Lo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lto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ena@europa.elfak.ni.ac.y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lnet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pa.elfak.ni.ac.y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pa.elfak.ni.ac.y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www.elfak.ni.ac.y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770-8189-4521-8E6B-B2ADD1F091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cc"/>
                </a:solidFill>
                <a:latin typeface="Times New Roman"/>
              </a:rPr>
              <a:t>WEB, WWW, 3W </a:t>
            </a:r>
            <a:br>
              <a:rPr sz="4800"/>
            </a:br>
            <a:endParaRPr b="0" i="1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ertext and hypermedia                             (text, audio, animation, mail, ftp 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ypertext transfer protoc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Hiper Text Markup Languag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guage for data formatting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E48-8714-4A4F-8323-8B4B1C8B45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HTML</a:t>
            </a: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cccc"/>
                </a:solidFill>
                <a:latin typeface="Times New Roman"/>
              </a:rPr>
              <a:t>?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8153280" cy="54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head&gt;&lt;title&gt;Primer HTML dokumenta&lt;/titl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meta http-equiv="Content-Type" content="text/html; charset=windows-1250"&gt; &lt;/hea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body bgcolor="#FFFFFF"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nt color="#660066" size="4"&gt;&lt;b&gt; ALATI ZA RAZVOJ HTML DOKUMENATA&lt;/b&gt;&lt;/font&g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h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u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li&gt;HTML (&lt;i&gt;HiperText Markup Language) - Jezik za pisanje osnovnog dokumenta&lt;/i&gt;&lt;/li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li&gt;JavaScript - Jezik za pisanje aktivnih Web stranica&lt;/li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li&gt;Java - Programski jezik za pisanje apleta koji se integrišu u HTML dokument&lt;/li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li&gt;DHTML (&lt;i&gt;Dynamic HiperText Markup Language&lt;/i&gt;) - Dinami~ki HTML za pisanj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tivnih Web stranica. &lt;/li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li&gt;VRML (&lt;i&gt;Virtual Reality Markup Language&lt;/i&gt;) - Jezik za modeliranje virtualne  realnosti. &lt;/li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u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h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&gt;&lt;a href="Sledeca_strana.html"&gt;Dalje&lt;/a&gt;&lt;/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html&gt;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Exa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80E-E907-4305-9B6B-782838F60C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4748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Static Web pag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eb author writes page composed of pure HTML, and save it within an .htm file on the serv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 later, a user types a page request into their browser, and the request is passed from the browser to the web serv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eb server locates the .htm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eb server sends the HTML stream back across the network to the brow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rowser processes the Html and displays the p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0F5-D1AF-416A-A274-B67655D81A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Static  Web pag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74800" y="1444680"/>
            <a:ext cx="7831080" cy="4954680"/>
            <a:chOff x="874800" y="1444680"/>
            <a:chExt cx="7831080" cy="4954680"/>
          </a:xfrm>
        </p:grpSpPr>
        <p:sp>
          <p:nvSpPr>
            <p:cNvPr id="165" name=""/>
            <p:cNvSpPr/>
            <p:nvPr/>
          </p:nvSpPr>
          <p:spPr>
            <a:xfrm>
              <a:off x="874800" y="1444680"/>
              <a:ext cx="7831080" cy="4954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2500200" y="1828800"/>
            <a:ext cx="81288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0200" y="1828800"/>
                      <a:ext cx="8128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6956280" y="3732120"/>
            <a:ext cx="1621080" cy="221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56280" y="3732120"/>
                      <a:ext cx="162108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0" name=""/>
          <p:cNvSpPr/>
          <p:nvPr/>
        </p:nvSpPr>
        <p:spPr>
          <a:xfrm rot="17889600">
            <a:off x="5529960" y="-11520"/>
            <a:ext cx="959040" cy="5392800"/>
          </a:xfrm>
          <a:custGeom>
            <a:avLst/>
            <a:gdLst>
              <a:gd name="textAreaLeft" fmla="*/ 128520 w 959040"/>
              <a:gd name="textAreaRight" fmla="*/ 830520 w 959040"/>
              <a:gd name="textAreaTop" fmla="*/ 1112760 h 5392800"/>
              <a:gd name="textAreaBottom" fmla="*/ 3740760 h 539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2863901"/>
                <a:lnTo>
                  <a:pt x="7586" y="21032"/>
                </a:lnTo>
                <a:lnTo>
                  <a:pt x="0" y="18634"/>
                </a:lnTo>
                <a:lnTo>
                  <a:pt x="7586" y="15100"/>
                </a:lnTo>
                <a:lnTo>
                  <a:pt x="7586" y="17260"/>
                </a:lnTo>
                <a:arcTo wR="21600" hR="8914" stAng="2863901" swAng="-2735154"/>
                <a:lnTo>
                  <a:pt x="21512" y="9720"/>
                </a:lnTo>
                <a:arcTo wR="21600" hR="8914" stAng="-128746" swAng="-5271254"/>
                <a:close/>
              </a:path>
              <a:path fill="darkenLess"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-128746"/>
                <a:lnTo>
                  <a:pt x="21512" y="9720"/>
                </a:lnTo>
                <a:arcTo wR="21600" hR="8914" stAng="-128746" swAng="-5271254"/>
                <a:close/>
              </a:path>
            </a:pathLst>
          </a:custGeom>
          <a:solidFill>
            <a:srgbClr val="00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6605400">
            <a:off x="4060440" y="2634840"/>
            <a:ext cx="949320" cy="4841640"/>
          </a:xfrm>
          <a:custGeom>
            <a:avLst/>
            <a:gdLst>
              <a:gd name="textAreaLeft" fmla="*/ 127080 w 949320"/>
              <a:gd name="textAreaRight" fmla="*/ 822240 w 949320"/>
              <a:gd name="textAreaTop" fmla="*/ 999000 h 4841640"/>
              <a:gd name="textAreaBottom" fmla="*/ 3358440 h 484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2863901"/>
                <a:lnTo>
                  <a:pt x="7586" y="21032"/>
                </a:lnTo>
                <a:lnTo>
                  <a:pt x="0" y="18634"/>
                </a:lnTo>
                <a:lnTo>
                  <a:pt x="7586" y="15100"/>
                </a:lnTo>
                <a:lnTo>
                  <a:pt x="7586" y="17260"/>
                </a:lnTo>
                <a:arcTo wR="21600" hR="8914" stAng="2863901" swAng="-2735154"/>
                <a:lnTo>
                  <a:pt x="21512" y="9720"/>
                </a:lnTo>
                <a:arcTo wR="21600" hR="8914" stAng="-128746" swAng="-5271254"/>
                <a:close/>
              </a:path>
              <a:path fill="darkenLess"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-128746"/>
                <a:lnTo>
                  <a:pt x="21512" y="9720"/>
                </a:lnTo>
                <a:arcTo wR="21600" hR="8914" stAng="-128746" swAng="-5271254"/>
                <a:close/>
              </a:path>
            </a:pathLst>
          </a:custGeom>
          <a:solidFill>
            <a:srgbClr val="7500d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22680" y="4851360"/>
            <a:ext cx="590400" cy="5731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2205000"/>
            <a:ext cx="590760" cy="5731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65880" y="3313080"/>
            <a:ext cx="590400" cy="5731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4581360"/>
            <a:ext cx="590400" cy="5731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370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04e"/>
                </a:solidFill>
                <a:latin typeface="Book Antiqua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56280" y="5942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04e"/>
                </a:solidFill>
                <a:latin typeface="Book Antiqua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74800" y="2590920"/>
            <a:ext cx="1625400" cy="1639080"/>
            <a:chOff x="874800" y="2590920"/>
            <a:chExt cx="1625400" cy="1639080"/>
          </a:xfrm>
        </p:grpSpPr>
        <p:sp>
          <p:nvSpPr>
            <p:cNvPr id="179" name=""/>
            <p:cNvSpPr/>
            <p:nvPr/>
          </p:nvSpPr>
          <p:spPr>
            <a:xfrm>
              <a:off x="1523880" y="259092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4800" y="3313080"/>
              <a:ext cx="16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Author writes HTML pag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828800" y="5530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004e"/>
                </a:solidFill>
                <a:latin typeface="Times New Roman"/>
              </a:rPr>
              <a:t>Client requests web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2778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004e"/>
                </a:solidFill>
                <a:latin typeface="Times New Roman"/>
              </a:rPr>
              <a:t>Web server locates .ht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732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004e"/>
                </a:solidFill>
                <a:latin typeface="Times New Roman"/>
              </a:rPr>
              <a:t>HTML stream returned to 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41720" y="4583160"/>
            <a:ext cx="2914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004e"/>
                </a:solidFill>
                <a:latin typeface="Times New Roman"/>
              </a:rPr>
              <a:t>Browser processes HTML and displays 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C6D-FD8C-4FBC-BCB4-DEC1700C9F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520" y="44748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Limitation of static Web pages</a:t>
            </a: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 (text, images, hyperlinks, etc)  and appearance of a static web page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same - regardless of who visits the page, 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isit, 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e at the page, or any other fac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 of the page has been determined before the request was made - at the tame when the webmaster saved the .htm file to the dis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204-F52B-46A9-917F-093E047B7A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520" y="44748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Dynamic Web pages</a:t>
            </a: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ML is generated dynamically after the page is reques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-coded HTML source is replaced with a set of instructions, which will be used to generate HTML for the page at the time when a user requests the p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DB9-4278-4C1C-BE7A-50842F4127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520" y="44748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Using Dynamic Web pages</a:t>
            </a: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can capture all sorts of information that isn’t known at the time when instructions are written - for exam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ser’s identity and personal p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of browser they are 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information provided by the user’s re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contained in databases, text files, XML fil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722-A7CB-4369-B6FE-E20E4F7ADB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4800" y="1444680"/>
            <a:ext cx="7831080" cy="49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Client side scripting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62720" y="156384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004e"/>
                </a:solidFill>
                <a:latin typeface="Times New Roman"/>
              </a:rPr>
              <a:t>HTML stream returned to 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74800" y="989280"/>
            <a:ext cx="7738200" cy="5412600"/>
            <a:chOff x="874800" y="989280"/>
            <a:chExt cx="7738200" cy="5412600"/>
          </a:xfrm>
        </p:grpSpPr>
        <p:graphicFrame>
          <p:nvGraphicFramePr>
            <p:cNvPr id="199" name=""/>
            <p:cNvGraphicFramePr/>
            <p:nvPr/>
          </p:nvGraphicFramePr>
          <p:xfrm>
            <a:off x="2500200" y="1828800"/>
            <a:ext cx="81288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0200" y="1828800"/>
                      <a:ext cx="8128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"/>
            <p:cNvGraphicFramePr/>
            <p:nvPr/>
          </p:nvGraphicFramePr>
          <p:xfrm>
            <a:off x="6956280" y="3732120"/>
            <a:ext cx="1621080" cy="221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56280" y="3732120"/>
                      <a:ext cx="162108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 rot="17889600">
              <a:off x="5529960" y="-11520"/>
              <a:ext cx="959040" cy="5392800"/>
            </a:xfrm>
            <a:custGeom>
              <a:avLst/>
              <a:gdLst>
                <a:gd name="textAreaLeft" fmla="*/ 128520 w 959040"/>
                <a:gd name="textAreaRight" fmla="*/ 830520 w 959040"/>
                <a:gd name="textAreaTop" fmla="*/ 1112760 h 5392800"/>
                <a:gd name="textAreaBottom" fmla="*/ 3740760 h 539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00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6605400">
              <a:off x="4060440" y="2634840"/>
              <a:ext cx="949320" cy="4841640"/>
            </a:xfrm>
            <a:custGeom>
              <a:avLst/>
              <a:gdLst>
                <a:gd name="textAreaLeft" fmla="*/ 127080 w 949320"/>
                <a:gd name="textAreaRight" fmla="*/ 822240 w 949320"/>
                <a:gd name="textAreaTop" fmla="*/ 999000 h 4841640"/>
                <a:gd name="textAreaBottom" fmla="*/ 3358440 h 48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259092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22680" y="485136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1280" y="220500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56280" y="220500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58136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23880" y="1370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Web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56280" y="5942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C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4800" y="3313080"/>
              <a:ext cx="16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Author writes HTML pag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553068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Client requests web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81280" y="277812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Web server locates .htm fi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05240" y="4567320"/>
              <a:ext cx="2914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Browser processes HTML and displays 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365880" y="3732120"/>
            <a:ext cx="590400" cy="573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372420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004e"/>
                </a:solidFill>
                <a:latin typeface="Book Antiqua"/>
              </a:rPr>
              <a:t>Browser processes client-side scri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87B-946E-48BC-AA84-AFB278F8BE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Client-Side alternativ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993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Scrip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Scri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 app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41A-34D8-4EE8-8F57-4B6DC51646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Content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0" y="476280"/>
            <a:ext cx="941400" cy="923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et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s and addr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Web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ynamic Web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side scrip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 side scrip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3E0-1D25-414B-905C-A90BFA4EB5F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93600"/>
            <a:ext cx="6629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JavaScript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057040" y="1370160"/>
            <a:ext cx="6629400" cy="54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TITLE&gt;Writing the Current Date&lt;/TITL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H2&gt; Date Confirmation&lt;/H2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P&gt; Today’s date 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&lt;SCRIPT LANGUAGE="JavaScript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&lt;!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d=new Dat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Document.Write (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// --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&lt;/SCRIP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, and wish you very is a nice 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/HTML&gt;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urier New"/>
                <a:hlinkClick r:id="rId1"/>
              </a:rPr>
              <a:t>Exa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242-ECED-46EE-88E6-E34E2C564A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61920" y="2458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Java and  Java applet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33520" y="1752480"/>
            <a:ext cx="4114800" cy="1752840"/>
          </a:xfrm>
          <a:prstGeom prst="foldedCorner">
            <a:avLst>
              <a:gd name="adj" fmla="val 12500"/>
            </a:avLst>
          </a:prstGeom>
          <a:solidFill>
            <a:srgbClr val="ffe7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905120"/>
            <a:ext cx="533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InfIng01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public static int 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min(</a:t>
            </a: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int 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a, </a:t>
            </a: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int 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b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return 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a &lt; b ? a : 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	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3657600"/>
            <a:ext cx="761760" cy="838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37339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Ja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65760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Byt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2286000"/>
            <a:ext cx="914400" cy="522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Unix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190512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Jav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Interpr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791320"/>
            <a:ext cx="914400" cy="533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Jav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Interpr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5486400"/>
            <a:ext cx="914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JIT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Compi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for 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53280" y="5791320"/>
            <a:ext cx="914400" cy="533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5638680"/>
            <a:ext cx="762120" cy="838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007e"/>
                </a:solidFill>
                <a:latin typeface="Times New Roman"/>
              </a:rPr>
              <a:t>Mach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007e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3352680"/>
            <a:ext cx="914400" cy="522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77120" y="297180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Jav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Interpr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4572000"/>
            <a:ext cx="914400" cy="522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48520" y="419112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Jav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Interpr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6019920"/>
            <a:ext cx="5097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03920" y="6019920"/>
            <a:ext cx="509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6019920"/>
            <a:ext cx="509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3320" y="4295880"/>
            <a:ext cx="758880" cy="352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413320" y="3504960"/>
            <a:ext cx="1031760" cy="533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410080" y="2808000"/>
            <a:ext cx="762120" cy="849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648320" y="4572000"/>
            <a:ext cx="25560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1911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4191120"/>
            <a:ext cx="6098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D79-DE58-4F5E-A1A1-1DDB44266C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Applet tag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title&gt;Image Tape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h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applet code="ImageTape.class" width=550 height=50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param name=speed value="4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param name=img value="images/team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param name=dir value="4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param name=nimgs value="15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h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a href="ImageTape.java"&gt;The source.&lt;/a&gt;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54A-5CBC-4475-AE44-64FEDACFDF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74800" y="1444680"/>
            <a:ext cx="7831080" cy="49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Server side scripting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874800" y="989280"/>
            <a:ext cx="7738200" cy="5412600"/>
            <a:chOff x="874800" y="989280"/>
            <a:chExt cx="7738200" cy="5412600"/>
          </a:xfrm>
        </p:grpSpPr>
        <p:graphicFrame>
          <p:nvGraphicFramePr>
            <p:cNvPr id="257" name=""/>
            <p:cNvGraphicFramePr/>
            <p:nvPr/>
          </p:nvGraphicFramePr>
          <p:xfrm>
            <a:off x="2500200" y="1828800"/>
            <a:ext cx="81288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0200" y="1828800"/>
                      <a:ext cx="8128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"/>
            <p:cNvGraphicFramePr/>
            <p:nvPr/>
          </p:nvGraphicFramePr>
          <p:xfrm>
            <a:off x="6956280" y="3732120"/>
            <a:ext cx="1621080" cy="221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56280" y="3732120"/>
                      <a:ext cx="162108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"/>
            <p:cNvSpPr/>
            <p:nvPr/>
          </p:nvSpPr>
          <p:spPr>
            <a:xfrm rot="17889600">
              <a:off x="5529960" y="-11520"/>
              <a:ext cx="959040" cy="5392800"/>
            </a:xfrm>
            <a:custGeom>
              <a:avLst/>
              <a:gdLst>
                <a:gd name="textAreaLeft" fmla="*/ 128520 w 959040"/>
                <a:gd name="textAreaRight" fmla="*/ 830520 w 959040"/>
                <a:gd name="textAreaTop" fmla="*/ 1112760 h 5392800"/>
                <a:gd name="textAreaBottom" fmla="*/ 3740760 h 539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00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6605400">
              <a:off x="4060440" y="2634840"/>
              <a:ext cx="949320" cy="4841640"/>
            </a:xfrm>
            <a:custGeom>
              <a:avLst/>
              <a:gdLst>
                <a:gd name="textAreaLeft" fmla="*/ 127080 w 949320"/>
                <a:gd name="textAreaRight" fmla="*/ 822240 w 949320"/>
                <a:gd name="textAreaTop" fmla="*/ 999000 h 4841640"/>
                <a:gd name="textAreaBottom" fmla="*/ 3358440 h 48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3880" y="259092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22680" y="485136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14840" y="182880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331308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458136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3880" y="1370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Web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56280" y="5942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C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74800" y="3313080"/>
              <a:ext cx="16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Author writes HTML pag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8800" y="553068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Client requests web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05240" y="20350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Web server locates .htm fi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72040" y="3535200"/>
              <a:ext cx="304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HTML stream returned to brows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05240" y="4567320"/>
              <a:ext cx="2914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Browser processes HTML and displays 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581280" y="2778120"/>
            <a:ext cx="590760" cy="573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5c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72040" y="2778120"/>
            <a:ext cx="219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Book Antiqua"/>
              </a:rPr>
              <a:t>Server processes instruction to create 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739-CCE4-4C12-8CD7-3D942A5EC9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874800" y="989280"/>
            <a:ext cx="7831080" cy="5495760"/>
            <a:chOff x="874800" y="989280"/>
            <a:chExt cx="7831080" cy="5495760"/>
          </a:xfrm>
        </p:grpSpPr>
        <p:sp>
          <p:nvSpPr>
            <p:cNvPr id="278" name=""/>
            <p:cNvSpPr/>
            <p:nvPr/>
          </p:nvSpPr>
          <p:spPr>
            <a:xfrm>
              <a:off x="874800" y="1444680"/>
              <a:ext cx="7831080" cy="504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79" name=""/>
            <p:cNvGraphicFramePr/>
            <p:nvPr/>
          </p:nvGraphicFramePr>
          <p:xfrm>
            <a:off x="2500200" y="1828800"/>
            <a:ext cx="812880" cy="20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0200" y="1828800"/>
                      <a:ext cx="8128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"/>
            <p:cNvGraphicFramePr/>
            <p:nvPr/>
          </p:nvGraphicFramePr>
          <p:xfrm>
            <a:off x="6956280" y="3732120"/>
            <a:ext cx="1621080" cy="221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56280" y="3732120"/>
                      <a:ext cx="162108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"/>
            <p:cNvSpPr/>
            <p:nvPr/>
          </p:nvSpPr>
          <p:spPr>
            <a:xfrm rot="17889600">
              <a:off x="5529960" y="-11520"/>
              <a:ext cx="959040" cy="5392800"/>
            </a:xfrm>
            <a:custGeom>
              <a:avLst/>
              <a:gdLst>
                <a:gd name="textAreaLeft" fmla="*/ 128520 w 959040"/>
                <a:gd name="textAreaRight" fmla="*/ 830520 w 959040"/>
                <a:gd name="textAreaTop" fmla="*/ 1112760 h 5392800"/>
                <a:gd name="textAreaBottom" fmla="*/ 3740760 h 539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00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605400">
              <a:off x="4060440" y="2634840"/>
              <a:ext cx="949320" cy="4841640"/>
            </a:xfrm>
            <a:custGeom>
              <a:avLst/>
              <a:gdLst>
                <a:gd name="textAreaLeft" fmla="*/ 127080 w 949320"/>
                <a:gd name="textAreaRight" fmla="*/ 822240 w 949320"/>
                <a:gd name="textAreaTop" fmla="*/ 999000 h 4841640"/>
                <a:gd name="textAreaBottom" fmla="*/ 3358440 h 48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23880" y="259092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2680" y="485136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14840" y="182880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65880" y="373212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3880" y="1370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Web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56280" y="5942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C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74800" y="3313080"/>
              <a:ext cx="16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Author writes HTML pag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28800" y="553068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Client requests web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05240" y="20350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Web server locates .htm fi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05240" y="3732120"/>
              <a:ext cx="219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HTML stream returned to brows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9880" y="5897520"/>
              <a:ext cx="29149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Browser processes HTML and displays 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65880" y="582624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Active Web pag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5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365880" y="4749840"/>
            <a:ext cx="590400" cy="573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5c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778120"/>
            <a:ext cx="590760" cy="573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5c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72040" y="2778120"/>
            <a:ext cx="219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004e"/>
                </a:solidFill>
                <a:latin typeface="Book Antiqua"/>
              </a:rPr>
              <a:t>Server processes instruction to create 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30600" y="4741920"/>
            <a:ext cx="219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004e"/>
                </a:solidFill>
                <a:latin typeface="Book Antiqua"/>
              </a:rPr>
              <a:t>Browser processes client-side scri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1E3-DF9B-47A2-ADD6-8E3E1733B6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Server-Side alternativ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G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mmon Gateway Interf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P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tive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rver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P (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ersonal Home Page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Cold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SP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va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rver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408-C168-44F0-93A7-47CDED9F91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371600" y="1752480"/>
            <a:ext cx="6858000" cy="4572000"/>
            <a:chOff x="1371600" y="1752480"/>
            <a:chExt cx="6858000" cy="4572000"/>
          </a:xfrm>
        </p:grpSpPr>
        <p:sp>
          <p:nvSpPr>
            <p:cNvPr id="307" name=""/>
            <p:cNvSpPr/>
            <p:nvPr/>
          </p:nvSpPr>
          <p:spPr>
            <a:xfrm>
              <a:off x="1371600" y="1752480"/>
              <a:ext cx="6858000" cy="457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905120" y="2286000"/>
            <a:ext cx="13413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2286000"/>
                      <a:ext cx="13413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"/>
            <p:cNvGraphicFramePr/>
            <p:nvPr/>
          </p:nvGraphicFramePr>
          <p:xfrm>
            <a:off x="6710400" y="2286000"/>
            <a:ext cx="812880" cy="205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0400" y="2286000"/>
                      <a:ext cx="8128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2" name=""/>
            <p:cNvSpPr/>
            <p:nvPr/>
          </p:nvSpPr>
          <p:spPr>
            <a:xfrm>
              <a:off x="1905120" y="228600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5c0091"/>
                  </a:solidFill>
                  <a:latin typeface="Book Antiqua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67280" y="18892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a004e"/>
                  </a:solidFill>
                  <a:latin typeface="Book Antiqua"/>
                </a:rPr>
                <a:t>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ASP</a:t>
            </a:r>
            <a:r>
              <a:rPr b="1" i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094200" y="2625840"/>
            <a:ext cx="36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004e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ttp://www.host.com/file1.as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46480" y="3022560"/>
            <a:ext cx="3002040" cy="339840"/>
          </a:xfrm>
          <a:prstGeom prst="rightArrow">
            <a:avLst>
              <a:gd name="adj1" fmla="val 50000"/>
              <a:gd name="adj2" fmla="val 220842"/>
            </a:avLst>
          </a:prstGeom>
          <a:solidFill>
            <a:srgbClr val="7500d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5442120" y="4740120"/>
            <a:ext cx="1076040" cy="987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19432200">
            <a:off x="6359400" y="4739760"/>
            <a:ext cx="990720" cy="289080"/>
          </a:xfrm>
          <a:prstGeom prst="leftArrow">
            <a:avLst>
              <a:gd name="adj1" fmla="val 50000"/>
              <a:gd name="adj2" fmla="val 85679"/>
            </a:avLst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48520" y="5029200"/>
            <a:ext cx="17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0071"/>
                </a:solidFill>
                <a:latin typeface="Times New Roman"/>
              </a:rPr>
              <a:t>asp.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9320" y="5727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Scrip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7"/>
          <a:stretch/>
        </p:blipFill>
        <p:spPr>
          <a:xfrm>
            <a:off x="1905120" y="4140360"/>
            <a:ext cx="1600200" cy="1199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rot="1194000">
            <a:off x="3152520" y="4595760"/>
            <a:ext cx="2289240" cy="289080"/>
          </a:xfrm>
          <a:prstGeom prst="leftArrow">
            <a:avLst>
              <a:gd name="adj1" fmla="val 50000"/>
              <a:gd name="adj2" fmla="val 197976"/>
            </a:avLst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312-5735-48E7-B801-1AE6911C42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44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PHP</a:t>
            </a:r>
            <a:r>
              <a:rPr b="1" i="1" lang="en-US" sz="4400" spc="-1" strike="noStrike">
                <a:solidFill>
                  <a:srgbClr val="00cccc"/>
                </a:solidFill>
                <a:latin typeface="Times New Roman"/>
              </a:rPr>
              <a:t> - Personal Home Page</a:t>
            </a: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r-side HTML-embedded scripting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title&gt; Example 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&lt;?php echo “Halo, I am PHP script!; ?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428-B2DF-42A9-8567-D1CCFB74098E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7616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Tree tiers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 architec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tier– Standard Web brow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 (Functional) tier - Web serv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tier (Database server based on SQL technologi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B8B-9CE2-452B-9963-BCFFB4B0FA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33360" y="1673280"/>
            <a:ext cx="8477280" cy="472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8568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00cccc"/>
                </a:solidFill>
                <a:latin typeface="Times New Roman"/>
              </a:rPr>
              <a:t>Tree tier</a:t>
            </a:r>
            <a:r>
              <a:rPr b="1" i="1" lang="en-US" sz="4400" spc="-1" strike="noStrike">
                <a:solidFill>
                  <a:srgbClr val="00cccc"/>
                </a:solidFill>
                <a:latin typeface="Times New Roman"/>
              </a:rPr>
              <a:t>s</a:t>
            </a:r>
            <a:r>
              <a:rPr b="1" i="1" lang="sr-Latn-CS" sz="4400" spc="-1" strike="noStrike">
                <a:solidFill>
                  <a:srgbClr val="00cccc"/>
                </a:solidFill>
                <a:latin typeface="Times New Roman"/>
              </a:rPr>
              <a:t> architectur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4616280" y="2438280"/>
          <a:ext cx="812880" cy="20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6280" y="2438280"/>
                    <a:ext cx="81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6956280" y="4322880"/>
          <a:ext cx="1255680" cy="171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56280" y="4322880"/>
                    <a:ext cx="125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 rot="17003400">
            <a:off x="6267960" y="1675440"/>
            <a:ext cx="533520" cy="2211480"/>
          </a:xfrm>
          <a:custGeom>
            <a:avLst/>
            <a:gdLst>
              <a:gd name="textAreaLeft" fmla="*/ 71280 w 533520"/>
              <a:gd name="textAreaRight" fmla="*/ 462240 w 533520"/>
              <a:gd name="textAreaTop" fmla="*/ 456120 h 2211480"/>
              <a:gd name="textAreaBottom" fmla="*/ 1533960 h 22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2863901"/>
                <a:lnTo>
                  <a:pt x="7586" y="21032"/>
                </a:lnTo>
                <a:lnTo>
                  <a:pt x="0" y="18634"/>
                </a:lnTo>
                <a:lnTo>
                  <a:pt x="7586" y="15100"/>
                </a:lnTo>
                <a:lnTo>
                  <a:pt x="7586" y="17260"/>
                </a:lnTo>
                <a:arcTo wR="21600" hR="8914" stAng="2863901" swAng="-2735154"/>
                <a:lnTo>
                  <a:pt x="21512" y="9720"/>
                </a:lnTo>
                <a:arcTo wR="21600" hR="8914" stAng="-128746" swAng="-5271254"/>
                <a:close/>
              </a:path>
              <a:path fill="darkenLess"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-128746"/>
                <a:lnTo>
                  <a:pt x="21512" y="9720"/>
                </a:lnTo>
                <a:arcTo wR="21600" hR="8914" stAng="-128746" swAng="-5271254"/>
                <a:close/>
              </a:path>
            </a:pathLst>
          </a:custGeom>
          <a:solidFill>
            <a:srgbClr val="00ff99"/>
          </a:solidFill>
          <a:ln w="1260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6605400">
            <a:off x="5035320" y="4028760"/>
            <a:ext cx="949320" cy="2765520"/>
          </a:xfrm>
          <a:custGeom>
            <a:avLst/>
            <a:gdLst>
              <a:gd name="textAreaLeft" fmla="*/ 127080 w 949320"/>
              <a:gd name="textAreaRight" fmla="*/ 822240 w 949320"/>
              <a:gd name="textAreaTop" fmla="*/ 570600 h 2765520"/>
              <a:gd name="textAreaBottom" fmla="*/ 1918440 h 276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2863901"/>
                <a:lnTo>
                  <a:pt x="7586" y="21032"/>
                </a:lnTo>
                <a:lnTo>
                  <a:pt x="0" y="18634"/>
                </a:lnTo>
                <a:lnTo>
                  <a:pt x="7586" y="15100"/>
                </a:lnTo>
                <a:lnTo>
                  <a:pt x="7586" y="17260"/>
                </a:lnTo>
                <a:arcTo wR="21600" hR="8914" stAng="2863901" swAng="-2735154"/>
                <a:lnTo>
                  <a:pt x="21512" y="9720"/>
                </a:lnTo>
                <a:arcTo wR="21600" hR="8914" stAng="-128746" swAng="-5271254"/>
                <a:close/>
              </a:path>
              <a:path fill="darkenLess"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-128746"/>
                <a:lnTo>
                  <a:pt x="21512" y="9720"/>
                </a:lnTo>
                <a:arcTo wR="21600" hR="8914" stAng="-128746" swAng="-5271254"/>
                <a:close/>
              </a:path>
            </a:pathLst>
          </a:custGeom>
          <a:solidFill>
            <a:srgbClr val="7500d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27400" y="1981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04e"/>
                </a:solidFill>
                <a:latin typeface="Book Antiqua"/>
              </a:rPr>
              <a:t>Apach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56280" y="5942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04e"/>
                </a:solidFill>
                <a:latin typeface="Book Antiqua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20960" y="2735280"/>
            <a:ext cx="851040" cy="312840"/>
          </a:xfrm>
          <a:prstGeom prst="leftArrow">
            <a:avLst>
              <a:gd name="adj1" fmla="val 50000"/>
              <a:gd name="adj2" fmla="val 6800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65600" y="3352680"/>
            <a:ext cx="850680" cy="341280"/>
          </a:xfrm>
          <a:prstGeom prst="rightArrow">
            <a:avLst>
              <a:gd name="adj1" fmla="val 49769"/>
              <a:gd name="adj2" fmla="val 28838"/>
            </a:avLst>
          </a:prstGeom>
          <a:solidFill>
            <a:srgbClr val="00ff99"/>
          </a:solidFill>
          <a:ln w="1260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24120" y="2438280"/>
            <a:ext cx="977760" cy="1293840"/>
          </a:xfrm>
          <a:prstGeom prst="rect">
            <a:avLst/>
          </a:prstGeom>
          <a:solidFill>
            <a:srgbClr val="ffff00"/>
          </a:solidFill>
          <a:ln w="12600">
            <a:solidFill>
              <a:srgbClr val="5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P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2557800">
            <a:off x="1312560" y="2735280"/>
            <a:ext cx="457200" cy="2141640"/>
          </a:xfrm>
          <a:custGeom>
            <a:avLst/>
            <a:gdLst>
              <a:gd name="textAreaLeft" fmla="*/ 61200 w 457200"/>
              <a:gd name="textAreaRight" fmla="*/ 396000 w 457200"/>
              <a:gd name="textAreaTop" fmla="*/ 374760 h 2141640"/>
              <a:gd name="textAreaBottom" fmla="*/ 1552680 h 214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500d7"/>
          </a:solidFill>
          <a:ln w="1260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0480" y="4876920"/>
            <a:ext cx="1079640" cy="1446120"/>
          </a:xfrm>
          <a:prstGeom prst="can">
            <a:avLst>
              <a:gd name="adj" fmla="val 25000"/>
            </a:avLst>
          </a:prstGeom>
          <a:solidFill>
            <a:srgbClr val="d60093"/>
          </a:solidFill>
          <a:ln w="12600">
            <a:solidFill>
              <a:srgbClr val="5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2578400">
            <a:off x="2514240" y="3732120"/>
            <a:ext cx="457200" cy="144792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99"/>
          </a:solidFill>
          <a:ln w="1260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16280" y="3887640"/>
            <a:ext cx="812880" cy="608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34240" y="1752480"/>
            <a:ext cx="2876400" cy="472608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51080" y="1673280"/>
            <a:ext cx="3753000" cy="4726080"/>
          </a:xfrm>
          <a:prstGeom prst="rect">
            <a:avLst/>
          </a:prstGeom>
          <a:solidFill>
            <a:srgbClr val="0000ff">
              <a:alpha val="2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3880" y="1673280"/>
            <a:ext cx="1917720" cy="4726080"/>
          </a:xfrm>
          <a:prstGeom prst="rect">
            <a:avLst/>
          </a:prstGeom>
          <a:solidFill>
            <a:srgbClr val="cc3300">
              <a:alpha val="23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6956280" y="3279600"/>
            <a:ext cx="1621080" cy="121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428-3B00-4F47-BA69-7D08CC53AA4B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440" y="25704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Our first experienc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85880" indent="-609840">
              <a:spcBef>
                <a:spcPts val="174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2 – First mail server at Faculty of Electroni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spcBef>
                <a:spcPts val="174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5 – First Web server and Web presentation of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acul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spcBef>
                <a:spcPts val="174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5 – Two diploma works in this 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spcBef>
                <a:spcPts val="174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6 – First book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work service World Wide Web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214200" y="609480"/>
            <a:ext cx="941400" cy="9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80E-2053-4AB6-850C-87F19D541C5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HTML and XML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DOCTYPE HTML PUBLIC “-//W3C//DTD HTML 4.0 // EN”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TITLE&gt; Begining ASP 3.0 &lt;/TITLE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1&gt; Begining ASP 3.0 &lt;/H1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3&gt; ISBN 1-861003-38-2&lt;/H3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4&gt;Authors&gt; &lt;/H4&gt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4&gt;Brian Frencis, Chris Ullman, Dave Sussman, John Kauffman&gt; &lt;/H4&gt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P&gt; US $49.99 &lt;B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P&gt; ASP je napredna tehnika za dinamicko kreiranje sadrzaja Web sajta. &lt;/P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1B8-8579-4162-8C84-D2484BFDCE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05704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XML 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12560" y="1066680"/>
            <a:ext cx="7297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?xml version =“1.0”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book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book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title&gt; Begining ASP 3.0 &lt;/title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ISBN&gt; ISBN 1-861003-38-2&lt;/ISB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author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author_name&gt; Brian Frencis &lt;/author_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author_name&gt; Chris Ullman &lt;/author_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author_name&gt; Dave Sussman &lt;/author_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author_name&gt; John Kauffman &lt;/author_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author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description&gt; Server side scripting technologies&lt;/descript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price&gt; US $49.99 &lt;/pra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book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book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7D9-6E05-4A70-92E5-07DD64A0D2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DTD (</a:t>
            </a:r>
            <a:r>
              <a:rPr b="1" i="1" lang="en-US" sz="3600" spc="-1" strike="noStrike">
                <a:solidFill>
                  <a:srgbClr val="00cccc"/>
                </a:solidFill>
                <a:latin typeface="Times New Roman"/>
              </a:rPr>
              <a:t>Document Type Definition</a:t>
            </a: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)</a:t>
            </a:r>
            <a:br>
              <a:rPr sz="3600"/>
            </a:b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DOCTYPE books&gt;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books (book+)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book (title, ISBN, authors, description?, price+)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authors (author+)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author (#PCDATA)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description (#PCDATA)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price EMPT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ATTLIST price US CD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REQUIRE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210-9435-4A56-BED8-544F75008A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5212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XML Schem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52120" y="1066320"/>
            <a:ext cx="7086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Schema ID=“books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 name =“title”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name =“ISBN”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name =“author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name=“description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name=“price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ttributeType name = “price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name = “book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 “title” maxOccurs=“1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 “ISBN” maxOccurs =“1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 “author” maxOccurs = “*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“description” maxOccurs=“*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“price” maxOccurs=“1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tribute type=“price”maxOccurs=“1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ElementTyp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 “books” model=“closed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 “book” maxOccurs=“*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ElementTyp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Schema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F6B-CE1D-47D7-9F6C-0077BBB2B1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cc"/>
                </a:solidFill>
                <a:latin typeface="Times New Roman"/>
              </a:rPr>
              <a:t>DOM (Document Object Model)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685800" y="2666880"/>
            <a:ext cx="7772400" cy="2514600"/>
            <a:chOff x="685800" y="2666880"/>
            <a:chExt cx="7772400" cy="2514600"/>
          </a:xfrm>
        </p:grpSpPr>
        <p:cxnSp>
          <p:nvCxnSpPr>
            <p:cNvPr id="367" name="_s128064"/>
            <p:cNvCxnSpPr>
              <a:stCxn id="368" idx="0"/>
              <a:endCxn id="369" idx="2"/>
            </p:cNvCxnSpPr>
            <p:nvPr/>
          </p:nvCxnSpPr>
          <p:spPr>
            <a:xfrm flipV="1" rot="16200000">
              <a:off x="4407120" y="4250880"/>
              <a:ext cx="229320" cy="7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0" name="_s128062"/>
            <p:cNvCxnSpPr>
              <a:stCxn id="371" idx="0"/>
              <a:endCxn id="369" idx="2"/>
            </p:cNvCxnSpPr>
            <p:nvPr/>
          </p:nvCxnSpPr>
          <p:spPr>
            <a:xfrm flipH="1" flipV="1" rot="5400000">
              <a:off x="3691440" y="4251960"/>
              <a:ext cx="229320" cy="715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2" name="_s128052"/>
            <p:cNvCxnSpPr>
              <a:stCxn id="373" idx="1"/>
              <a:endCxn id="374" idx="2"/>
            </p:cNvCxnSpPr>
            <p:nvPr/>
          </p:nvCxnSpPr>
          <p:spPr>
            <a:xfrm rot="10800000">
              <a:off x="7026480" y="4494960"/>
              <a:ext cx="2041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5" name="_s128050"/>
            <p:cNvCxnSpPr>
              <a:stCxn id="374" idx="0"/>
              <a:endCxn id="376" idx="2"/>
            </p:cNvCxnSpPr>
            <p:nvPr/>
          </p:nvCxnSpPr>
          <p:spPr>
            <a:xfrm flipV="1" rot="16200000">
              <a:off x="5685120" y="2696400"/>
              <a:ext cx="229320" cy="2454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7" name="_s128041"/>
            <p:cNvCxnSpPr>
              <a:stCxn id="378" idx="0"/>
              <a:endCxn id="376" idx="2"/>
            </p:cNvCxnSpPr>
            <p:nvPr/>
          </p:nvCxnSpPr>
          <p:spPr>
            <a:xfrm flipH="1" flipV="1" rot="5400000">
              <a:off x="3538080" y="3003120"/>
              <a:ext cx="229320" cy="1841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9" name="_s128039"/>
            <p:cNvCxnSpPr>
              <a:stCxn id="380" idx="0"/>
              <a:endCxn id="376" idx="2"/>
            </p:cNvCxnSpPr>
            <p:nvPr/>
          </p:nvCxnSpPr>
          <p:spPr>
            <a:xfrm flipV="1" rot="16200000">
              <a:off x="4969440" y="3412080"/>
              <a:ext cx="229320" cy="1023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1" name="_s128037"/>
            <p:cNvCxnSpPr>
              <a:stCxn id="369" idx="0"/>
              <a:endCxn id="376" idx="2"/>
            </p:cNvCxnSpPr>
            <p:nvPr/>
          </p:nvCxnSpPr>
          <p:spPr>
            <a:xfrm flipH="1" flipV="1" rot="5400000">
              <a:off x="4253760" y="3718800"/>
              <a:ext cx="229320" cy="410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2" name="_s128035"/>
            <p:cNvCxnSpPr>
              <a:stCxn id="383" idx="0"/>
              <a:endCxn id="376" idx="2"/>
            </p:cNvCxnSpPr>
            <p:nvPr/>
          </p:nvCxnSpPr>
          <p:spPr>
            <a:xfrm flipH="1" flipV="1" rot="5400000">
              <a:off x="2822040" y="2287080"/>
              <a:ext cx="229320" cy="327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4" name="_s128030"/>
            <p:cNvCxnSpPr>
              <a:stCxn id="385" idx="0"/>
              <a:endCxn id="386" idx="2"/>
            </p:cNvCxnSpPr>
            <p:nvPr/>
          </p:nvCxnSpPr>
          <p:spPr>
            <a:xfrm flipV="1" rot="16200000">
              <a:off x="5889960" y="1805400"/>
              <a:ext cx="229320" cy="286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7" name="_s128029"/>
            <p:cNvCxnSpPr>
              <a:stCxn id="388" idx="0"/>
              <a:endCxn id="386" idx="2"/>
            </p:cNvCxnSpPr>
            <p:nvPr/>
          </p:nvCxnSpPr>
          <p:spPr>
            <a:xfrm flipV="1" rot="16200000">
              <a:off x="5173560" y="2521080"/>
              <a:ext cx="229320" cy="1433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9" name="_s128028"/>
            <p:cNvCxnSpPr>
              <a:stCxn id="376" idx="0"/>
              <a:endCxn id="386" idx="2"/>
            </p:cNvCxnSpPr>
            <p:nvPr/>
          </p:nvCxnSpPr>
          <p:spPr>
            <a:xfrm flipV="1" rot="16200000">
              <a:off x="4457520" y="323712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6" name="_s128024"/>
            <p:cNvSpPr/>
            <p:nvPr/>
          </p:nvSpPr>
          <p:spPr>
            <a:xfrm>
              <a:off x="3957480" y="2666880"/>
              <a:ext cx="122832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Book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_s128025"/>
            <p:cNvSpPr/>
            <p:nvPr/>
          </p:nvSpPr>
          <p:spPr>
            <a:xfrm>
              <a:off x="3958920" y="33526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bo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_s128026"/>
            <p:cNvSpPr/>
            <p:nvPr/>
          </p:nvSpPr>
          <p:spPr>
            <a:xfrm>
              <a:off x="5391000" y="3352680"/>
              <a:ext cx="1226880" cy="457200"/>
            </a:xfrm>
            <a:prstGeom prst="roundRect">
              <a:avLst>
                <a:gd name="adj" fmla="val 16667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00093"/>
                  </a:solidFill>
                  <a:latin typeface="Book Antiqua"/>
                </a:rPr>
                <a:t>bo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_s128027"/>
            <p:cNvSpPr/>
            <p:nvPr/>
          </p:nvSpPr>
          <p:spPr>
            <a:xfrm>
              <a:off x="6822720" y="33526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00093"/>
                  </a:solidFill>
                  <a:latin typeface="Book Antiqua"/>
                </a:rPr>
                <a:t>bo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_s128034"/>
            <p:cNvSpPr/>
            <p:nvPr/>
          </p:nvSpPr>
          <p:spPr>
            <a:xfrm>
              <a:off x="685800" y="40384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tit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_s128036"/>
            <p:cNvSpPr/>
            <p:nvPr/>
          </p:nvSpPr>
          <p:spPr>
            <a:xfrm>
              <a:off x="3549240" y="40384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autho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_s128038"/>
            <p:cNvSpPr/>
            <p:nvPr/>
          </p:nvSpPr>
          <p:spPr>
            <a:xfrm>
              <a:off x="4981320" y="4038480"/>
              <a:ext cx="122688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descrip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_s128040"/>
            <p:cNvSpPr/>
            <p:nvPr/>
          </p:nvSpPr>
          <p:spPr>
            <a:xfrm>
              <a:off x="2117520" y="4038480"/>
              <a:ext cx="122688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IS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_s128049"/>
            <p:cNvSpPr/>
            <p:nvPr/>
          </p:nvSpPr>
          <p:spPr>
            <a:xfrm>
              <a:off x="6413040" y="40384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pri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_s128051"/>
            <p:cNvSpPr/>
            <p:nvPr/>
          </p:nvSpPr>
          <p:spPr>
            <a:xfrm>
              <a:off x="7230960" y="47242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00093"/>
                  </a:solidFill>
                  <a:latin typeface="Book Antiqua"/>
                </a:rPr>
                <a:t>230$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_s128061"/>
            <p:cNvSpPr/>
            <p:nvPr/>
          </p:nvSpPr>
          <p:spPr>
            <a:xfrm>
              <a:off x="2832840" y="4724280"/>
              <a:ext cx="12268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00093"/>
                  </a:solidFill>
                  <a:latin typeface="Book Antiqua"/>
                </a:rPr>
                <a:t>M.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_s128063"/>
            <p:cNvSpPr/>
            <p:nvPr/>
          </p:nvSpPr>
          <p:spPr>
            <a:xfrm>
              <a:off x="4264560" y="47242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00093"/>
                  </a:solidFill>
                  <a:latin typeface="Book Antiqua"/>
                </a:rPr>
                <a:t>F.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D74-77BA-4E10-9149-28EA717085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XSL (</a:t>
            </a: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Extensible Style sheet Language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sion of XML data in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, WML, W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ting formats  (PDF, Te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 for other programming languag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8CA-A857-4C6D-ADE8-E8E1AA0502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93600"/>
            <a:ext cx="7772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Tree tiers architecture with XML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6595920" y="2971800"/>
            <a:ext cx="62712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48560" y="3124080"/>
            <a:ext cx="62712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08760" y="3276720"/>
            <a:ext cx="62712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9400" y="4572000"/>
            <a:ext cx="1067040" cy="1219320"/>
          </a:xfrm>
          <a:prstGeom prst="flowChartMagneticDisk">
            <a:avLst/>
          </a:prstGeom>
          <a:solidFill>
            <a:srgbClr val="d60093"/>
          </a:solidFill>
          <a:ln w="12600">
            <a:solidFill>
              <a:srgbClr val="5c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92080" y="5005440"/>
            <a:ext cx="7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50086"/>
                </a:solidFill>
                <a:latin typeface="Book Antiqua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50086"/>
                </a:solidFill>
                <a:latin typeface="Book Antiqua"/>
              </a:rPr>
              <a:t>s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28120" y="281952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XS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2362320"/>
            <a:ext cx="1218960" cy="12189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76720" y="26668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41560" y="164772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Book Antiqua"/>
              </a:rPr>
              <a:t>ASP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for defining function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4548240"/>
            <a:ext cx="1218960" cy="12193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515772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312920" y="2514600"/>
            <a:ext cx="2116080" cy="22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465200" y="2563920"/>
            <a:ext cx="2116080" cy="236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5157720"/>
            <a:ext cx="2361960" cy="301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63560" y="5614920"/>
            <a:ext cx="2362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038480" y="3276720"/>
            <a:ext cx="2557440" cy="155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4929120"/>
            <a:ext cx="3032280" cy="228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5359320"/>
            <a:ext cx="2879640" cy="1000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59760" y="4829040"/>
            <a:ext cx="13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HTM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W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95680" y="5614920"/>
            <a:ext cx="22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7040" y="434808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Book Antiqua"/>
              </a:rPr>
              <a:t>ASP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r manipulation with</a:t>
            </a:r>
            <a:r>
              <a:rPr b="0" lang="sr-Latn-CS" sz="1600" spc="-1" strike="noStrike">
                <a:solidFill>
                  <a:srgbClr val="ffffff"/>
                </a:solidFill>
                <a:latin typeface="Book Antiqua"/>
              </a:rPr>
              <a:t> XML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579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225252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85960" y="2971800"/>
            <a:ext cx="17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ame</a:t>
            </a:r>
            <a:r>
              <a:rPr b="0" lang="sr-Latn-C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f </a:t>
            </a:r>
            <a:r>
              <a:rPr b="0" lang="sr-Latn-CS" sz="1600" spc="-1" strike="noStrike">
                <a:solidFill>
                  <a:srgbClr val="ffffff"/>
                </a:solidFill>
                <a:latin typeface="Book Antiqua"/>
              </a:rPr>
              <a:t>XSL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5614920"/>
            <a:ext cx="2879640" cy="1526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5EC-569A-4EE6-8407-CA735454C6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2920" y="333000"/>
            <a:ext cx="7086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cccc"/>
                </a:solidFill>
                <a:latin typeface="Times New Roman"/>
              </a:rPr>
              <a:t>WEB Component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1447920"/>
            <a:ext cx="1600200" cy="1676160"/>
          </a:xfrm>
          <a:prstGeom prst="cube">
            <a:avLst>
              <a:gd name="adj" fmla="val 515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90720" y="2057400"/>
            <a:ext cx="2361960" cy="580680"/>
            <a:chOff x="990720" y="2057400"/>
            <a:chExt cx="2361960" cy="580680"/>
          </a:xfrm>
        </p:grpSpPr>
        <p:grpSp>
          <p:nvGrpSpPr>
            <p:cNvPr id="423" name=""/>
            <p:cNvGrpSpPr/>
            <p:nvPr/>
          </p:nvGrpSpPr>
          <p:grpSpPr>
            <a:xfrm>
              <a:off x="2362320" y="2057400"/>
              <a:ext cx="990360" cy="533520"/>
              <a:chOff x="2362320" y="2057400"/>
              <a:chExt cx="990360" cy="533520"/>
            </a:xfrm>
          </p:grpSpPr>
          <p:sp>
            <p:nvSpPr>
              <p:cNvPr id="424" name=""/>
              <p:cNvSpPr/>
              <p:nvPr/>
            </p:nvSpPr>
            <p:spPr>
              <a:xfrm>
                <a:off x="2362320" y="2057400"/>
                <a:ext cx="533160" cy="533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95480" y="2362320"/>
                <a:ext cx="45720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990720" y="205740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Arial"/>
                </a:rPr>
                <a:t>WEB Interfa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105520" y="1415880"/>
            <a:ext cx="3352680" cy="1708200"/>
            <a:chOff x="5105520" y="1415880"/>
            <a:chExt cx="3352680" cy="1708200"/>
          </a:xfrm>
        </p:grpSpPr>
        <p:grpSp>
          <p:nvGrpSpPr>
            <p:cNvPr id="428" name=""/>
            <p:cNvGrpSpPr/>
            <p:nvPr/>
          </p:nvGrpSpPr>
          <p:grpSpPr>
            <a:xfrm>
              <a:off x="6654960" y="1415880"/>
              <a:ext cx="1803240" cy="1708200"/>
              <a:chOff x="6654960" y="1415880"/>
              <a:chExt cx="1803240" cy="1708200"/>
            </a:xfrm>
          </p:grpSpPr>
          <p:sp>
            <p:nvSpPr>
              <p:cNvPr id="429" name=""/>
              <p:cNvSpPr/>
              <p:nvPr/>
            </p:nvSpPr>
            <p:spPr>
              <a:xfrm>
                <a:off x="6858000" y="1752480"/>
                <a:ext cx="1523880" cy="1371600"/>
              </a:xfrm>
              <a:prstGeom prst="can">
                <a:avLst>
                  <a:gd name="adj" fmla="val 25000"/>
                </a:avLst>
              </a:prstGeom>
              <a:solidFill>
                <a:srgbClr val="d600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54960" y="1415880"/>
                <a:ext cx="180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Data sour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105520" y="2362320"/>
              <a:ext cx="15494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87280" y="1752120"/>
            <a:ext cx="4299120" cy="4484880"/>
            <a:chOff x="1187280" y="1752120"/>
            <a:chExt cx="4299120" cy="4484880"/>
          </a:xfrm>
        </p:grpSpPr>
        <p:pic>
          <p:nvPicPr>
            <p:cNvPr id="433" name="" descr=""/>
            <p:cNvPicPr/>
            <p:nvPr/>
          </p:nvPicPr>
          <p:blipFill>
            <a:blip r:embed="rId1"/>
            <a:stretch/>
          </p:blipFill>
          <p:spPr>
            <a:xfrm>
              <a:off x="1187280" y="3425760"/>
              <a:ext cx="4299120" cy="281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"/>
            <p:cNvGrpSpPr/>
            <p:nvPr/>
          </p:nvGrpSpPr>
          <p:grpSpPr>
            <a:xfrm>
              <a:off x="1859040" y="1752120"/>
              <a:ext cx="3022200" cy="3949560"/>
              <a:chOff x="1859040" y="1752120"/>
              <a:chExt cx="3022200" cy="394956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1859040" y="1752120"/>
                <a:ext cx="1746000" cy="2878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3605040" y="1752120"/>
                <a:ext cx="1276200" cy="2878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2530800" y="2756160"/>
                <a:ext cx="1074240" cy="1874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3605040" y="2755800"/>
                <a:ext cx="1276200" cy="2945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859040" y="4630680"/>
                <a:ext cx="1746000" cy="10710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40" name="" descr=""/>
          <p:cNvPicPr/>
          <p:nvPr/>
        </p:nvPicPr>
        <p:blipFill>
          <a:blip r:embed="rId2">
            <a:lum contrast="-6000"/>
          </a:blip>
          <a:srcRect l="27298" t="16022" r="27298" b="17255"/>
          <a:stretch/>
        </p:blipFill>
        <p:spPr>
          <a:xfrm>
            <a:off x="425520" y="487440"/>
            <a:ext cx="946080" cy="92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94B-40EA-46A1-B5E1-F3C2473FFD6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66600" y="964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cccc"/>
                </a:solidFill>
                <a:latin typeface="Times New Roman"/>
              </a:rPr>
              <a:t>Intranet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rcRect l="27311" t="16042" r="27311" b="17248"/>
          <a:stretch/>
        </p:blipFill>
        <p:spPr>
          <a:xfrm>
            <a:off x="541440" y="3579840"/>
            <a:ext cx="627120" cy="6843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rcRect l="27311" t="16042" r="27311" b="17248"/>
          <a:stretch/>
        </p:blipFill>
        <p:spPr>
          <a:xfrm>
            <a:off x="1803240" y="4570560"/>
            <a:ext cx="627120" cy="684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5410080" y="3298680"/>
            <a:ext cx="3733920" cy="2289240"/>
          </a:xfrm>
          <a:prstGeom prst="irregularSeal1">
            <a:avLst/>
          </a:prstGeom>
          <a:solidFill>
            <a:srgbClr val="0000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398280" y="426420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42642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520" y="1905120"/>
            <a:ext cx="4419720" cy="3554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38160" y="2054160"/>
            <a:ext cx="1219320" cy="9907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4"/>
          <a:srcRect l="27311" t="16042" r="27311" b="17248"/>
          <a:stretch/>
        </p:blipFill>
        <p:spPr>
          <a:xfrm>
            <a:off x="1320840" y="2722680"/>
            <a:ext cx="627120" cy="6840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5"/>
          <a:srcRect l="27311" t="16042" r="27311" b="17248"/>
          <a:stretch/>
        </p:blipFill>
        <p:spPr>
          <a:xfrm>
            <a:off x="3057480" y="2894040"/>
            <a:ext cx="627120" cy="6843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6"/>
          <a:srcRect l="27311" t="16042" r="27311" b="17248"/>
          <a:stretch/>
        </p:blipFill>
        <p:spPr>
          <a:xfrm>
            <a:off x="5691240" y="2363760"/>
            <a:ext cx="627120" cy="6843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809800" y="2741760"/>
            <a:ext cx="1219320" cy="990360"/>
          </a:xfrm>
          <a:prstGeom prst="ellipse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7"/>
          <a:srcRect l="27311" t="16042" r="27311" b="17248"/>
          <a:stretch/>
        </p:blipFill>
        <p:spPr>
          <a:xfrm>
            <a:off x="2182680" y="2209680"/>
            <a:ext cx="627120" cy="684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5410080" y="2308320"/>
            <a:ext cx="1219320" cy="990360"/>
          </a:xfrm>
          <a:prstGeom prst="ellipse">
            <a:avLst/>
          </a:prstGeom>
          <a:solidFill>
            <a:srgbClr val="d60093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8"/>
          <a:srcRect l="27311" t="16042" r="27311" b="17248"/>
          <a:stretch/>
        </p:blipFill>
        <p:spPr>
          <a:xfrm>
            <a:off x="4730760" y="1525680"/>
            <a:ext cx="627120" cy="684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471920" y="1373040"/>
            <a:ext cx="1219320" cy="990720"/>
          </a:xfrm>
          <a:prstGeom prst="ellipse">
            <a:avLst/>
          </a:prstGeom>
          <a:solidFill>
            <a:srgbClr val="d60093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61360" y="16016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t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909960" y="3044520"/>
            <a:ext cx="1781280" cy="1219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909960" y="2363760"/>
            <a:ext cx="1119240" cy="15717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909960" y="4392720"/>
            <a:ext cx="2254320" cy="1778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66880" y="3935520"/>
            <a:ext cx="1243080" cy="785880"/>
          </a:xfrm>
          <a:prstGeom prst="rect">
            <a:avLst/>
          </a:prstGeom>
          <a:solidFill>
            <a:srgbClr val="ffff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007e"/>
                </a:solidFill>
                <a:latin typeface="Book Antiqua"/>
              </a:rPr>
              <a:t>WE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007e"/>
                </a:solidFill>
                <a:latin typeface="Book Antiqua"/>
              </a:rPr>
              <a:t>por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3406680"/>
            <a:ext cx="990360" cy="528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66880" y="3048120"/>
            <a:ext cx="390600" cy="887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36920" y="3732120"/>
            <a:ext cx="0" cy="203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68560" y="4264200"/>
            <a:ext cx="149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430360" y="4721040"/>
            <a:ext cx="6271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36520" y="1905120"/>
            <a:ext cx="4419720" cy="3554280"/>
          </a:xfrm>
          <a:prstGeom prst="ellipse">
            <a:avLst/>
          </a:prstGeom>
          <a:noFill/>
          <a:ln w="5724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36920" y="513072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037-5D07-4AF4-931E-A19DEEC1F3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E-Applications</a:t>
            </a:r>
            <a:r>
              <a:rPr b="1" lang="sr-Latn-C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 por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2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C04-8656-4747-ADE6-C82DF9EC70B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120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Diploma works-Main topic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ML, CGI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Script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and Java applet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e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P technologies, AS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-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439560" y="476280"/>
            <a:ext cx="932040" cy="9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28D-C148-43FD-85EA-2BCAEDBEDB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S</a:t>
            </a:r>
            <a:r>
              <a:rPr b="1" i="1" lang="sr-Latn-CS" sz="4000" spc="-1" strike="noStrike">
                <a:solidFill>
                  <a:srgbClr val="00cccc"/>
                </a:solidFill>
                <a:latin typeface="Times New Roman"/>
              </a:rPr>
              <a:t>tudent </a:t>
            </a: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WEB laboratory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85880" indent="-60984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1997-1999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elf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for Web development, programming, Web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jec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87400" indent="-533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b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presentation of Faculty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lectron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87400" indent="-533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tual reality model of the Faculty bui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214200" y="476280"/>
            <a:ext cx="941400" cy="92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C16-CB1D-4D89-823F-EE7E87CC26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Education: Current  stat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85880" indent="-6098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Basics of Computer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87400" indent="-533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Internet (e-mail, WW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Programming 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87400" indent="-533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O programming in 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omputer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87400" indent="-533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s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214200" y="476280"/>
            <a:ext cx="941400" cy="92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BF2-9767-4F51-9C3D-AABFD2451A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Addresses and Protocols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CP/IP 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c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CP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ansmission Control Protoco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ternet protoco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 address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 Example: 160.99.11.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main Name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erarchical  system of organization of names at 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QDN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ully Qualified Domain Nam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Example: europa.efak.ni.ac.y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00C-4C6A-4129-8670-D31B9B1052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143000" y="2637000"/>
            <a:ext cx="6858000" cy="2835000"/>
            <a:chOff x="1143000" y="2637000"/>
            <a:chExt cx="6858000" cy="2835000"/>
          </a:xfrm>
        </p:grpSpPr>
        <p:sp>
          <p:nvSpPr>
            <p:cNvPr id="131" name=""/>
            <p:cNvSpPr/>
            <p:nvPr/>
          </p:nvSpPr>
          <p:spPr>
            <a:xfrm>
              <a:off x="1143000" y="2637000"/>
              <a:ext cx="6858000" cy="283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2057400" y="3262320"/>
            <a:ext cx="13413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262320"/>
                      <a:ext cx="13413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6400800" y="3033720"/>
            <a:ext cx="812520" cy="205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033720"/>
                      <a:ext cx="81252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2209680" y="326232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0091"/>
                  </a:solidFill>
                  <a:latin typeface="Book Antiqua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9560" y="26370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a004e"/>
                  </a:solidFill>
                  <a:latin typeface="Book Antiqua"/>
                </a:rPr>
                <a:t>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cccc"/>
                </a:solidFill>
                <a:latin typeface="Times New Roman"/>
              </a:rPr>
              <a:t>Client</a:t>
            </a: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 - server  concept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ZW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3246480" y="3152880"/>
            <a:ext cx="3002040" cy="736560"/>
            <a:chOff x="3246480" y="3152880"/>
            <a:chExt cx="3002040" cy="736560"/>
          </a:xfrm>
        </p:grpSpPr>
        <p:sp>
          <p:nvSpPr>
            <p:cNvPr id="142" name=""/>
            <p:cNvSpPr/>
            <p:nvPr/>
          </p:nvSpPr>
          <p:spPr>
            <a:xfrm>
              <a:off x="3627360" y="3152880"/>
              <a:ext cx="239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a004e"/>
                  </a:solidFill>
                  <a:latin typeface="Book Antiqua"/>
                </a:rPr>
                <a:t>Client reques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6480" y="3549600"/>
              <a:ext cx="3002040" cy="339840"/>
            </a:xfrm>
            <a:prstGeom prst="rightArrow">
              <a:avLst>
                <a:gd name="adj1" fmla="val 50000"/>
                <a:gd name="adj2" fmla="val 220842"/>
              </a:avLst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070080" y="3909960"/>
            <a:ext cx="3002040" cy="703800"/>
            <a:chOff x="3070080" y="3909960"/>
            <a:chExt cx="3002040" cy="703800"/>
          </a:xfrm>
        </p:grpSpPr>
        <p:sp>
          <p:nvSpPr>
            <p:cNvPr id="145" name=""/>
            <p:cNvSpPr/>
            <p:nvPr/>
          </p:nvSpPr>
          <p:spPr>
            <a:xfrm>
              <a:off x="3627360" y="39099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a004e"/>
                  </a:solidFill>
                  <a:latin typeface="Book Antiqua"/>
                </a:rPr>
                <a:t>Server respon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70080" y="4307040"/>
              <a:ext cx="3002040" cy="288720"/>
            </a:xfrm>
            <a:prstGeom prst="leftArrow">
              <a:avLst>
                <a:gd name="adj1" fmla="val 50000"/>
                <a:gd name="adj2" fmla="val 259944"/>
              </a:avLst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D74-FF36-4463-81EB-DD55B0C7A7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Internet services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le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el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ctronic conferenc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Usenet, Netne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net  Relay C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orld Wide We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E41-FE8B-40DB-A192-3E14061CA2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2:36Z</dcterms:created>
  <dc:creator>Mitic Ivan</dc:creator>
  <dc:description/>
  <dc:language>en-US</dc:language>
  <cp:lastModifiedBy>Stanislav Stankovic</cp:lastModifiedBy>
  <dcterms:modified xsi:type="dcterms:W3CDTF">2003-04-17T13:24:14Z</dcterms:modified>
  <cp:revision>342</cp:revision>
  <dc:subject/>
  <dc:title>Recommending a Strategy</dc:title>
</cp:coreProperties>
</file>